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2B88-054E-48D0-9083-42F288DF5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C27A-E9F3-4C7C-9604-820D44D8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5C7B-232B-4971-AF85-E9632AD1F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8F78-C672-4EC4-BD55-21DDF2A38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AD5B-1CCC-4FCF-BB13-2F21618E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D14B-2076-4F83-A6B2-B4703AB7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58D9-2B4F-430D-B0B5-F6649633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BDCE-9A0B-439D-B51D-169AA6B2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8D54-6CF1-40EA-AEAD-CB17E989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BE02-B1C8-4A29-8A87-4F3976FF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2C14-E886-482F-92CF-C84861F0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59A6-7B3D-42D3-8354-2A749484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1D9F-C879-4598-AB52-4B655D861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1596960"/>
            <a:ext cx="7010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d129"/>
                </a:solidFill>
                <a:latin typeface="Tahoma"/>
              </a:rPr>
              <a:t>Myanmar Language Enabling in</a:t>
            </a:r>
            <a:br>
              <a:rPr sz="3600"/>
            </a:br>
            <a:r>
              <a:rPr b="0" lang="en-US" sz="3600" spc="-1" strike="noStrike">
                <a:solidFill>
                  <a:srgbClr val="f3d129"/>
                </a:solidFill>
                <a:latin typeface="Tahoma"/>
              </a:rPr>
              <a:t>Pango/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ahoma"/>
              </a:rPr>
              <a:t>Tin Myo Ht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3200400"/>
            <a:ext cx="7696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minar on Myanmar Natural Language Proce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y 4, 2006, Conference Hall, Myanmar Info-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What supports / Known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323720"/>
            <a:ext cx="7162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nder correctly Myanmar Unicode conforming Unicode 4.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anskrit extension has not been implemented as encoding is not clearly defined yet although glyphs are added alread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as to improve in line-breaking, cursor positioning, etc. specific to Myanmar script as now using general one supported by Pan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d129"/>
                </a:solidFill>
                <a:latin typeface="Tahoma"/>
              </a:rPr>
              <a:t>GNU/Linux Desktop Structure and Internation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400880" cy="4657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19520" y="2743200"/>
            <a:ext cx="4114800" cy="1752480"/>
          </a:xfrm>
          <a:prstGeom prst="ellips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d129"/>
                </a:solidFill>
                <a:latin typeface="Tahoma"/>
              </a:rPr>
              <a:t>Pan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65530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an (All / Greek) + Go (Language / Japanes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owerful modular Unicode text rendering eng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lmost all GTK/Gnome applications use Pango for text rend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nabling Myanmar Unicode in Pango =&gt; Enabling Myanmar Unicode in GTK/Gnome ap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ot just for GTK, possible to develop any application for Myanmar Unico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562720" y="685800"/>
            <a:ext cx="1295280" cy="4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d129"/>
                </a:solidFill>
                <a:latin typeface="Tahoma"/>
              </a:rPr>
              <a:t>Pango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1629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Unicode as common character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odula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ndering system independ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ow level process of rendering text – Itemization, Boundary resolution, Shaping, Line breaking, Render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igh level PangoLayout handles all above processing, and Interactive editing like cursor position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Enabling Myanmar Unicode in Pang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162920" cy="38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nabling Myanmar Unicode in Pango inclu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ango Shaper Mo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yanmar OpenType Fo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Pango Shaper Mod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323720"/>
            <a:ext cx="7162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ased on Shaper module for Khmer scri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evelop State Table to determine the length of well formed Myanmar Syll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ocess of shaper module includes getting character class, determining syllable boundary, reordering, adding dotted circle for wrong encoding sequence, assigning correct OpenType feature tag according to character cla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6784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Syllabl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914040"/>
            <a:ext cx="716292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rthographic not Phonological syl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xample for the word “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Åav;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honological</a:t>
            </a:r>
            <a:br>
              <a:rPr sz="2200"/>
            </a:b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f ? w ? av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rthographical</a:t>
            </a:r>
            <a:br>
              <a:rPr sz="2200"/>
            </a:b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 ? ef ? w ? av;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(or)</a:t>
            </a:r>
            <a:br>
              <a:rPr sz="2200"/>
            </a:b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Å ? av;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latter needs more processing for reordering but choose this as it can be reused for line break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Myanmar OpenType Fo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isting Myanmar OpenType font “Myanmar1” can’t be used as it implement rendering engine specific features like reorde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ftwares used to create Myanmar OpenType font are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ntForge (http://fontforge.sourceforge.net/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ueType/OpenType Tools esp. OTComp, TrueTypeViewer (http://home.kabelfoon.nl/~slam/fonts/index.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 OpenType specification for Myanmar script has not been defined, effort has been made in choosing the features to be compatible with future support of Uniscribe Engine in MS plat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-7668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OpenType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942840"/>
            <a:ext cx="716292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eatures used in Myanmar OpenType font are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bvf ( eg. kinzi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vuFm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ef ( eg. medial r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Mu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lwf ( eg. medial w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uG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stf ( eg. medial y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us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bvs ( eg. vowel i + anusvar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wm0wðom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es ( eg. medial ra + wide consonant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Mu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lws ( eg. medial ha + vowel u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I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sts ( eg. tall vowel a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cg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bvm ( eg. kinzi + tall vowel a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ocFg&amp;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lwm ( eg. subscript t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Åav;? rdwåL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04:02:59Z</dcterms:created>
  <dc:creator>INC2</dc:creator>
  <dc:description/>
  <dc:language>en-US</dc:language>
  <cp:lastModifiedBy>INC2</cp:lastModifiedBy>
  <dcterms:modified xsi:type="dcterms:W3CDTF">2006-05-03T09:44:06Z</dcterms:modified>
  <cp:revision>32</cp:revision>
  <dc:subject/>
  <dc:title>Slide 1</dc:title>
</cp:coreProperties>
</file>