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1095-CF5D-4C59-A94A-5A317A32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A55-D081-4749-B670-114F32CE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40C5-A1A8-40CD-8218-9FD97C18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08D-8175-4AA3-9C04-763AE0D7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ABDA-62C9-4AC4-8EA9-919EFAD1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06F-F497-4D27-BFA3-5B76D15D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BFE-162D-4E44-9553-64B5614D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A7C5-52B0-45E5-B96E-999C9179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AC2F-6154-4A6D-ACCE-EB029C14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F812-2BA9-49EC-B1F4-9E318052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1669-3D59-4FD6-BCE4-FCB6E201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C1ED-A34F-4B0B-8B1C-5E0BEF89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692B-0F1E-4C93-A59A-2CAB39F9D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VC-003F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42" name="MVC-004F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43434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S.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23:35Z</dcterms:created>
  <dc:creator>ops</dc:creator>
  <dc:description/>
  <dc:language>en-US</dc:language>
  <cp:lastModifiedBy>ops</cp:lastModifiedBy>
  <dcterms:modified xsi:type="dcterms:W3CDTF">2005-11-07T14:05:58Z</dcterms:modified>
  <cp:revision>2</cp:revision>
  <dc:subject/>
  <dc:title>PowerPoint Presentation</dc:title>
</cp:coreProperties>
</file>