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192-1B75-43C4-8B8B-C036BC59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F0D-2934-48BA-B11B-25ADCAD1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27A-E0F1-4D25-972D-961463DE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ED1-4B6B-483A-9F86-CADD9F64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CA0-C84D-443E-B8F1-D0C59FC4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94C-F370-46FC-B6AC-F99FF39B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654-00D2-4C1D-8711-95D423BE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F57E-3275-44F9-9D85-C495F20D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CEB-3638-4D9D-96E8-02FC0760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DB7-6E7A-4C44-8220-371CFE1B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6EA-C92E-48AC-A652-5D3F05DC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2A9-AFA0-4AAB-AF2B-2C3B0FBC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F373-E945-41D0-853E-730FCDE2B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VC-003F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42" name="MVC-004F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43434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.S.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23:35Z</dcterms:created>
  <dc:creator>ops</dc:creator>
  <dc:description/>
  <dc:language>en-US</dc:language>
  <cp:lastModifiedBy>ops</cp:lastModifiedBy>
  <dcterms:modified xsi:type="dcterms:W3CDTF">2005-11-07T14:05:58Z</dcterms:modified>
  <cp:revision>2</cp:revision>
  <dc:subject/>
  <dc:title>PowerPoint Presentation</dc:title>
</cp:coreProperties>
</file>