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53AE-BA73-4A09-A6C9-5D5605CD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7EC5-B30E-4F2D-9CC8-675AD33A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3A53-ED9E-48F6-91A4-FD371C21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E915-D24F-4112-BBBB-59A4B46C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23A3-AE55-40D7-9435-1A1D82F2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2156-FA1F-45EE-BF70-EC85D7C9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263F-AF92-4403-97D1-AAD30049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981F-E4AA-4B6F-93BA-5E6121A9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2897-94A4-4105-B981-90BB07E9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F29C-02F9-4C78-88B2-5C8F114E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899E-CA5F-4BED-8EA8-EC715E03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DFD3-7BC6-4600-9628-EA22927F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675C-DC7E-4402-8605-0CAE5D326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VC-003F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42" name="MVC-004F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43434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.S.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2:23:35Z</dcterms:created>
  <dc:creator>ops</dc:creator>
  <dc:description/>
  <dc:language>en-US</dc:language>
  <cp:lastModifiedBy>ops</cp:lastModifiedBy>
  <dcterms:modified xsi:type="dcterms:W3CDTF">2005-11-07T14:05:58Z</dcterms:modified>
  <cp:revision>2</cp:revision>
  <dc:subject/>
  <dc:title>PowerPoint Presentation</dc:title>
</cp:coreProperties>
</file>