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8EE90-C8AC-48E4-A298-93B861CAC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FFD2F-1A1F-445B-BCD1-9D7787A61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B8CE8-834E-4D86-8A2A-EBFA971F1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3D0B4-B546-4862-BEFB-DE57FE111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3143F-EA3F-4028-B515-0C3BFF908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A1F95-33DA-4132-8794-EB59DB836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25B71-ECD3-4465-A4B2-95A57AFE4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61987-4008-4D8C-BD73-E8CCA4ECB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DA7E1-C28B-41AA-B488-5A40C17A3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9FDD9-51F5-49A2-98AD-2D84AAAB4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E3AA6-9898-4548-A242-0F31569F4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E36C9-600C-44A3-A548-F29AC072A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D45BA-3D14-4225-B200-843B2CFEEB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324000" y="115920"/>
          <a:ext cx="5400360" cy="395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15920"/>
                    <a:ext cx="5400360" cy="395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132000" y="2781360"/>
            <a:ext cx="5724720" cy="37148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8172360" y="836640"/>
            <a:ext cx="765360" cy="32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8T13:20:01Z</dcterms:created>
  <dc:creator>Administrator</dc:creator>
  <dc:description/>
  <dc:language>en-US</dc:language>
  <cp:lastModifiedBy>Administrator</cp:lastModifiedBy>
  <dcterms:modified xsi:type="dcterms:W3CDTF">2007-11-08T13:20:08Z</dcterms:modified>
  <cp:revision>1</cp:revision>
  <dc:subject/>
  <dc:title>Folie 1</dc:title>
</cp:coreProperties>
</file>