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BFEB-DE89-450E-83D1-E31D5EE5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E993-B4A3-4719-A9AE-605A4DE4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FE98-634E-406A-A8A9-1A403A010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345A-3176-49C6-BF66-F53004EA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4442-B2FD-470C-B61B-08C95C5A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64E-7962-4257-ABD0-993771C53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EC68-4604-4EC7-BFEA-832A93225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549D-EBE9-439A-95E2-90814EFA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8E76-DABA-4FAD-A66C-EEDAA219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83B9-D3FE-410D-97A2-37841812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0DB2-2093-4FA3-8981-592FC295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E3C3-D4E9-42FE-A4A7-664E9BAB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E2F4-AABA-4011-A9F5-E209726B4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115920"/>
          <a:ext cx="540036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5920"/>
                    <a:ext cx="540036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132000" y="2781360"/>
            <a:ext cx="5724720" cy="371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172360" y="836640"/>
            <a:ext cx="765360" cy="32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3:20:01Z</dcterms:created>
  <dc:creator>Administrator</dc:creator>
  <dc:description/>
  <dc:language>en-US</dc:language>
  <cp:lastModifiedBy>Administrator</cp:lastModifiedBy>
  <dcterms:modified xsi:type="dcterms:W3CDTF">2007-11-08T13:20:08Z</dcterms:modified>
  <cp:revision>1</cp:revision>
  <dc:subject/>
  <dc:title>Folie 1</dc:title>
</cp:coreProperties>
</file>