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58E-96A3-4E8F-B893-1A94A73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07B-CB07-448A-8B63-9B61BDB7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055A-4957-4F4A-809B-E50E685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576C-885B-4AC6-BC5E-C5D4549E5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B4D7-7EB2-45A7-B61E-B2CBD9A17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2A69-5279-4D91-B3B8-E118A5E4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4975-846D-41D8-9645-EE88451E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3B10-9DB5-4790-BFAA-6C304251B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360B-EFA5-4113-A1BF-36F739D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F7B-D9A6-4463-AB96-DB95880B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FAD9-6B18-43B1-A6CE-61AD6492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9A45-C851-4750-B21E-D1B54B19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21B34-044C-492B-BD85-7EB90DF83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240" y="1596960"/>
            <a:ext cx="70102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Myanmar Language Enabling in</a:t>
            </a:r>
            <a:br>
              <a:rPr sz="3600"/>
            </a:br>
            <a:r>
              <a:rPr b="0" lang="en-US" sz="3600" spc="-1" strike="noStrike">
                <a:solidFill>
                  <a:srgbClr val="f3d129"/>
                </a:solidFill>
                <a:latin typeface="Tahoma"/>
              </a:rPr>
              <a:t>Pango/O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ahoma"/>
              </a:rPr>
              <a:t>Tin Myo Ht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3200400"/>
            <a:ext cx="769608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55627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eminar on Myanmar Natural Language 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4, 2006, Conference Hall, Myanmar Info-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What supports / Known Iss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 correctly Myanmar Unicode conforming Unicode 4.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Sanskrit extension has not been implemented as encoding is not clearly defined yet although glyphs are added alread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as to improve in line-breaking, cursor positioning, etc. specific to Myanmar script as now using general one supported by Pan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d129"/>
                </a:solidFill>
                <a:latin typeface="Tahoma"/>
              </a:rPr>
              <a:t>GNU/Linux Desktop Structure and Internation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400880" cy="4657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819520" y="2743200"/>
            <a:ext cx="4114800" cy="1752480"/>
          </a:xfrm>
          <a:prstGeom prst="ellipse">
            <a:avLst/>
          </a:prstGeom>
          <a:noFill/>
          <a:ln w="54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371240"/>
            <a:ext cx="65530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 (All / Greek) + Go (Language / Japanes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werful modular Unicode text rendering eng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lmost all GTK/Gnome applications use Pango for text rende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=&gt; Enabling Myanmar Unicode in GTK/Gnome ap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Not just for GTK, possible to develop any application for Myanmar Unicod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1295280" cy="4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3d129"/>
                </a:solidFill>
                <a:latin typeface="Tahoma"/>
              </a:rPr>
              <a:t>Pango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162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code as common character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odula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Rendering system independ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Low level process of rendering text – Itemization, Boundary resolution, Shaping, Line breaking, Render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High level PangoLayout handles all above processing, and Interactive editing like cursor position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Enabling Myanmar Unicode in Pang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162920" cy="38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nabling Myanmar Unicode in Pango inclu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ango Shaper Mod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Myanmar OpenType Fo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Pango Shaper Modu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323720"/>
            <a:ext cx="716292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ased on Shaper module for Khmer scrip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 State Table to determine the length of well formed Myanmar Syll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cess of shaper module includes getting character class, determining syllable boundary, reordering, adding dotted circle for wrong encoding sequence, assigning correct OpenType feature tag according to character clas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Syllabl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16292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 not Phonological syl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xample for the word “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honolog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f ? w ? av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Orthographical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 ? ef ? w ? av;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(or)</a:t>
            </a:r>
            <a:br>
              <a:rPr sz="2200"/>
            </a:b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 ? av;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atter needs more processing for reordering but choose this as it can be reused for line break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Myanmar OpenType Fo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7732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isting Myanmar OpenType font “Myanmar1” can’t be used as it implement rendering engine specific features like reorde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oftwares used to create Myanmar OpenType font are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ntForge (http://fontforge.sourceforge.net/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ueType/OpenType Tools esp. OTComp, TrueTypeViewer (http://home.kabelfoon.nl/~slam/fonts/index.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OpenType specification for Myanmar script has not been defined, effort has been made in choosing the features to be compatible with future support of Uniscribe Engine in MS plat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-7668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3d129"/>
                </a:solidFill>
                <a:latin typeface="Tahoma"/>
              </a:rPr>
              <a:t>OpenType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942840"/>
            <a:ext cx="7162920" cy="56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Features used in Myanmar OpenType font are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f ( eg. kinzi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vuFm 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f ( eg. medial 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f ( eg. medial w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f ( eg. medial y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us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s ( eg. vowel i + anusvar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wm0wðom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es ( eg. medial ra + wide consonant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Mu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s ( eg. medial ha + vowel u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I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sts ( eg.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cg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bvm ( eg. kinzi + tall vowel a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ocFg&amp;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lwm ( eg. subscript ta </a:t>
            </a:r>
            <a:r>
              <a:rPr b="0" lang="en-US" sz="2800" spc="-1" strike="noStrike">
                <a:solidFill>
                  <a:srgbClr val="ffffff"/>
                </a:solidFill>
                <a:latin typeface="WinResearcher"/>
              </a:rPr>
              <a:t>rEÅav;? rdwåL</a:t>
            </a: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 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04:02:59Z</dcterms:created>
  <dc:creator>INC2</dc:creator>
  <dc:description/>
  <dc:language>en-US</dc:language>
  <cp:lastModifiedBy>INC2</cp:lastModifiedBy>
  <dcterms:modified xsi:type="dcterms:W3CDTF">2006-05-03T09:44:06Z</dcterms:modified>
  <cp:revision>32</cp:revision>
  <dc:subject/>
  <dc:title>Slide 1</dc:title>
</cp:coreProperties>
</file>