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8ED-613E-4A6A-BD59-3AD197FA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D30-6192-4577-9D18-18E6C42D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6F1-4FA4-481A-833A-F9ABCAEB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B51-0264-40C6-B707-5F3C73FE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B1D-C93D-4FB8-81EA-D5C3561B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CD2-B155-4E0D-9616-FF2CD7A0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BCC-3520-45EB-977F-91799D08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066-EFCD-4F34-B84B-9C2E7150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9D91-E4C3-4385-A930-C7345540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1BC-DA8E-49DB-B440-4F5EF328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A8D-B83A-4F72-B194-F54FD0EB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F76-D94B-4CE5-AC48-DB87217F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6217-36D5-4FD2-98B0-1D679774D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96960"/>
            <a:ext cx="7010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Myanmar Language Enabling in</a:t>
            </a:r>
            <a:br>
              <a:rPr sz="3600"/>
            </a:b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Pango/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Tin Myo H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200400"/>
            <a:ext cx="7696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minar on Myanmar Natural Language 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 4, 2006, Conference Hall, Myanmar Info-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What supports / Known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 correctly Myanmar Unicode conforming Unicode 4.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anskrit extension has not been implemented as encoding is not clearly defined yet although glyphs are added alread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s to improve in line-breaking, cursor positioning, etc. specific to Myanmar script as now using general one supported by Pan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d129"/>
                </a:solidFill>
                <a:latin typeface="Tahoma"/>
              </a:rPr>
              <a:t>GNU/Linux Desktop Structure and Internati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00880" cy="465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19520" y="2743200"/>
            <a:ext cx="4114800" cy="175248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6553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 (All / Greek) + Go (Language / Japane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werful modular Unicode text rendering eng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lmost all GTK/Gnome applications use Pango for text ren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=&gt; Enabling Myanmar Unicode in GTK/Gnome 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t just for GTK, possible to develop any application for Myanmar Uni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129528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icode as common character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ing system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w level process of rendering text – Itemization, Boundary resolution, Shaping, Line breaking, Rend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igh level PangoLayout handles all above processing, and Interactive editing like cursor positi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Enabling Myanmar Unicode in Pan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16292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go Shaper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anmar OpenType F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Pango Shaper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Shaper module for Khmer scr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velop State Table to determine the length of well formed Myanmar Syl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cess of shaper module includes getting character class, determining syllable boundary, reordering, adding dotted circle for wrong encoding sequence, assigning correct OpenType feature tag according to character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Syllab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1629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 not Phonological syl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ple for the word “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honolog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f ? w ? a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 ? ef ? w ? av;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or)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 ? av;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latter needs more processing for reordering but choose this as it can be reused for line break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Myanmar OpenType F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isting Myanmar OpenType font “Myanmar1” can’t be used as it implement rendering engine specific features like reord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ftwares used to create Myanmar OpenType font are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ntForge (http://fontforge.sourceforge.net/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ueType/OpenType Tools esp. OTComp, TrueTypeViewer (http://home.kabelfoon.nl/~slam/fonts/index.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OpenType specification for Myanmar script has not been defined, effort has been made in choosing the features to be compatible with future support of Uniscribe Engine in MS plat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OpenType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942840"/>
            <a:ext cx="716292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eatures used in Myanmar OpenType font are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f ( eg. kinzi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vuFm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f ( eg. medial 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f ( eg. medial w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f ( eg. medial y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s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s ( eg. vowel i + anusva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wm0wðom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s ( eg. medial ra + wide consonant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s ( eg. medial ha + vowel u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I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s ( eg.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c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m ( eg. kinzi +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ocFg&amp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m ( eg. subscript t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? rdwå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4:02:59Z</dcterms:created>
  <dc:creator>INC2</dc:creator>
  <dc:description/>
  <dc:language>en-US</dc:language>
  <cp:lastModifiedBy>INC2</cp:lastModifiedBy>
  <dcterms:modified xsi:type="dcterms:W3CDTF">2006-05-03T09:44:06Z</dcterms:modified>
  <cp:revision>32</cp:revision>
  <dc:subject/>
  <dc:title>Slide 1</dc:title>
</cp:coreProperties>
</file>