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AC1-94CE-4375-8217-E442BB8B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308-BF47-4969-8582-7E7BD7C5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18D-8B64-4354-83B4-BC9551F9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283-34F7-4733-A395-73D0E065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B74-F749-463E-9066-0261CD09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C24-F4D1-40D6-88F2-D1B1B36F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CD5-CAE3-4CE8-A2D4-0FE8FB04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906-CFC1-40D7-83F1-9F2B5AE0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91B-D98E-4760-A900-99869878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1D0-19B1-47DB-9F2B-218D1971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07A-4244-4729-9C0C-4A8410E8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504-248C-4733-87C5-71D8C02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1FE8-C108-4F0F-8042-8C53E3ACC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VC-003F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2" name="MVC-004F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3434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S.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23:35Z</dcterms:created>
  <dc:creator>ops</dc:creator>
  <dc:description/>
  <dc:language>en-US</dc:language>
  <cp:lastModifiedBy>ops</cp:lastModifiedBy>
  <dcterms:modified xsi:type="dcterms:W3CDTF">2005-11-07T14:05:58Z</dcterms:modified>
  <cp:revision>2</cp:revision>
  <dc:subject/>
  <dc:title>PowerPoint Presentation</dc:title>
</cp:coreProperties>
</file>