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9C243-9DC5-4530-85B9-62EBBCB1F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29A1C-18D7-4EC9-BAFE-6F840D636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7C0E9-D302-4EFE-9880-9983D6A39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F7EF7-7B3A-4F30-B6D2-9201A9D84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B4FC2-68A7-4118-9923-6E7418DE5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6E354-7697-48B4-B62D-48B4F3B18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80708-3716-475D-973E-1CF1E8BB0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48923-41C1-46CB-B566-28385E087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316BF-F2DF-42A6-AC72-ACB5D8172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CE084-508D-44AA-8A24-486A32F3C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E617C-A554-4C80-8D2C-F62E2E4CA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30F46-4A81-4237-AE46-B2BE53370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32E0F-8727-4BBE-877A-7365B6AB73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MVC-003F" descr=""/>
          <p:cNvPicPr/>
          <p:nvPr/>
        </p:nvPicPr>
        <p:blipFill>
          <a:blip r:embed="rId1"/>
          <a:stretch/>
        </p:blipFill>
        <p:spPr>
          <a:xfrm>
            <a:off x="0" y="0"/>
            <a:ext cx="4419720" cy="3314880"/>
          </a:xfrm>
          <a:prstGeom prst="rect">
            <a:avLst/>
          </a:prstGeom>
          <a:ln w="0">
            <a:noFill/>
          </a:ln>
        </p:spPr>
      </p:pic>
      <p:pic>
        <p:nvPicPr>
          <p:cNvPr id="42" name="MVC-004F" descr=""/>
          <p:cNvPicPr/>
          <p:nvPr/>
        </p:nvPicPr>
        <p:blipFill>
          <a:blip r:embed="rId2"/>
          <a:stretch/>
        </p:blipFill>
        <p:spPr>
          <a:xfrm>
            <a:off x="4572000" y="3429000"/>
            <a:ext cx="4572000" cy="3429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066680" y="4343400"/>
            <a:ext cx="2210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.S.4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7T12:23:35Z</dcterms:created>
  <dc:creator>ops</dc:creator>
  <dc:description/>
  <dc:language>en-US</dc:language>
  <cp:lastModifiedBy>ops</cp:lastModifiedBy>
  <dcterms:modified xsi:type="dcterms:W3CDTF">2005-11-07T14:05:58Z</dcterms:modified>
  <cp:revision>2</cp:revision>
  <dc:subject/>
  <dc:title>PowerPoint Presentation</dc:title>
</cp:coreProperties>
</file>