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D94-83DD-40E8-8EC6-91C75DA5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537-ED07-466F-9087-05F4A142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DD7-74DF-4901-8D2E-4320D407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79A-05A3-4FEC-9D15-8D9C649D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3A9-8CFB-47F7-AEAA-46AD7C1C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6ED-AB14-433A-B615-1A75BEA6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EDE-F520-4EA3-A801-8A8152AD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8E9-04DC-4D22-B11E-A5611E22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B23-3A0E-47B7-8927-EF2EF114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ED3-CAF7-45BB-B027-81A79FF2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BE4-9CA0-43AE-BD28-74718DB0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A33-FAF3-43FB-99A9-39CC81C7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36DD-8E98-411C-B1CE-DEAB122CE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VC-003F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2" name="MVC-004F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S.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23:35Z</dcterms:created>
  <dc:creator>ops</dc:creator>
  <dc:description/>
  <dc:language>en-US</dc:language>
  <cp:lastModifiedBy>ops</cp:lastModifiedBy>
  <dcterms:modified xsi:type="dcterms:W3CDTF">2005-11-07T14:05:58Z</dcterms:modified>
  <cp:revision>2</cp:revision>
  <dc:subject/>
  <dc:title>PowerPoint Presentation</dc:title>
</cp:coreProperties>
</file>