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F64-4345-4A98-9E91-76F85E3A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82B-E3A4-4476-8E2C-588FAF12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970-E97D-4C7F-8A42-E9FDE22F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FF5-928D-43D1-B776-A912D119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79D-0846-48DD-95C0-C93A161A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573-F001-4F19-AE0E-E1498094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1AE-8A28-48B3-8EC7-297326B7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E4F-B40C-493B-A2B8-6739DB74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C65-5F40-4471-9B75-126B1B07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ADB-A8B0-4C47-A597-B916C36E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B74-6357-4C0D-97DA-43ABF8FD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4E4-83BD-41B8-A305-1D5FB344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8827-61EB-4EA5-9995-82BF86EA9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VC-003F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42" name="MVC-004F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3434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S.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23:35Z</dcterms:created>
  <dc:creator>ops</dc:creator>
  <dc:description/>
  <dc:language>en-US</dc:language>
  <cp:lastModifiedBy>ops</cp:lastModifiedBy>
  <dcterms:modified xsi:type="dcterms:W3CDTF">2005-11-07T14:05:58Z</dcterms:modified>
  <cp:revision>2</cp:revision>
  <dc:subject/>
  <dc:title>PowerPoint Presentation</dc:title>
</cp:coreProperties>
</file>